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751-A774-481B-BBC0-AFF54BFD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993-1AF3-424C-8E8C-6D053785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FEF-9F61-4F15-B4D9-B6241EA8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5F1-1D92-4176-AF0D-3A5F0E36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F9EA-09D2-4D7C-971A-C57820B2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260-2310-4956-A972-ABAA73E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0334-F1B1-4357-84B6-32137B7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E1E-77DB-4EA6-9D95-795E6C8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278A-6064-43CF-8EFF-8D24F92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3417-9003-4EE4-BD62-1C523C16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ED6-2815-4225-B882-1CF03ED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06C-67AA-405F-B659-644CD21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96CE-84FA-4E94-8D7A-ECCFF83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007-F417-442B-8796-79AB281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F47C-FC90-4056-9BDE-ACA4CC71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3274-43F1-4926-A089-7C0B4A38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981-2112-4496-9790-E9ECF86B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5AA-5501-4460-A5C9-80ED45E4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70D-9D72-47A1-9FB3-0FA028A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FEB-7943-46EF-A26A-E10ABD7D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EA1-24D0-4D20-8CB7-AA08197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69-49C3-4D73-A399-AEF550A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0FD-F784-4684-AB46-D5F40D0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715-E32E-4AED-9535-3418700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8AC3-7DD1-43ED-80F1-1B730435F5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749-3780-4434-952F-87CF799089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9298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Метод проектов</a:t>
            </a: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в начальной школ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00160" y="4581360"/>
            <a:ext cx="71438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итель высшей катег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ОУ «Гимназия №2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ебедева Любовь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герб гимназии"/>
          <p:cNvPicPr/>
          <p:nvPr/>
        </p:nvPicPr>
        <p:blipFill>
          <a:blip r:embed="rId1"/>
          <a:stretch/>
        </p:blipFill>
        <p:spPr>
          <a:xfrm>
            <a:off x="3560760" y="2346480"/>
            <a:ext cx="1328760" cy="187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исследовательск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исковый, творчески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ролевой, игрово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кладной (практико-ориентированный)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ознакомительно-ориентировочный (информационный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зможные результаты («выходы»)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ектной деятельности младших школьник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фе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льбом, газета, гербар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урнал, книжка-раскладуш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стюм, макет, модель, сувенир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ценарий праздни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бное пособ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ритерии успеха работы над проекто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стигнут конечный результ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на активная команда участников проекта, способная продолжить работу в будущ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зультат проекта может быть использован другим коллектив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учено удовольствие от самой деятель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00040" y="185724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еятельность учителя и учеников на разных этапах работы над проект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руктура деятельности учителя и ученика при использовании метода проек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5520" y="11970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a1123"/>
          <p:cNvPicPr/>
          <p:nvPr/>
        </p:nvPicPr>
        <p:blipFill>
          <a:blip r:embed="rId1"/>
          <a:stretch/>
        </p:blipFill>
        <p:spPr>
          <a:xfrm>
            <a:off x="2556000" y="692280"/>
            <a:ext cx="172872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836640"/>
          <a:ext cx="9180360" cy="6067440"/>
        </p:xfrm>
        <a:graphic>
          <a:graphicData uri="http://schemas.openxmlformats.org/drawingml/2006/table">
            <a:tbl>
              <a:tblPr/>
              <a:tblGrid>
                <a:gridCol w="4067280"/>
                <a:gridCol w="51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Уче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Учит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т цель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гает определять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иру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омендует источники 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крывает новые зн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крывает возможные формы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ирает пути  ре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йствует прогнозированию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ёт условия для активности школь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ёт ответственность за сою деяте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гает оценить полученный результат, выявить недоста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об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тнёр уче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8-web"/>
          <p:cNvPicPr/>
          <p:nvPr/>
        </p:nvPicPr>
        <p:blipFill>
          <a:blip r:embed="rId1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37800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агия моря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4000" y="3357720"/>
            <a:ext cx="35272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бедева Л. 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Гимназия №23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Озер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льфины в море плаваю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плавают киты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рыбки разноцвет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также я и т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т только мы у берег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рыбки в глубине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выросли на солнышк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рыбки все - в вод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рыба- собака"/>
          <p:cNvPicPr/>
          <p:nvPr/>
        </p:nvPicPr>
        <p:blipFill>
          <a:blip r:embed="rId1"/>
          <a:stretch/>
        </p:blipFill>
        <p:spPr>
          <a:xfrm>
            <a:off x="6831000" y="4592520"/>
            <a:ext cx="2313000" cy="226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92360" y="1413000"/>
            <a:ext cx="77961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4  «Б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2060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Учебные предметы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92360" y="2997360"/>
            <a:ext cx="6932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42210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родолжительност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692360" y="5373720"/>
            <a:ext cx="77961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 нед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724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яснить, как влияет среда обитания на внешний вид морских жител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мавританский идол"/>
          <p:cNvPicPr/>
          <p:nvPr/>
        </p:nvPicPr>
        <p:blipFill>
          <a:blip r:embed="rId1"/>
          <a:stretch/>
        </p:blipFill>
        <p:spPr>
          <a:xfrm>
            <a:off x="0" y="4206960"/>
            <a:ext cx="3600360" cy="265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синий хирург"/>
          <p:cNvPicPr/>
          <p:nvPr/>
        </p:nvPicPr>
        <p:blipFill>
          <a:blip r:embed="rId2"/>
          <a:stretch/>
        </p:blipFill>
        <p:spPr>
          <a:xfrm>
            <a:off x="4883040" y="3919680"/>
            <a:ext cx="4260960" cy="2938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тайны скрывают морские глубин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51_3"/>
          <p:cNvPicPr/>
          <p:nvPr/>
        </p:nvPicPr>
        <p:blipFill>
          <a:blip r:embed="rId1"/>
          <a:stretch/>
        </p:blipFill>
        <p:spPr>
          <a:xfrm>
            <a:off x="4211640" y="4010040"/>
            <a:ext cx="4390920" cy="2847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96720" y="277920"/>
            <a:ext cx="95407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«Расскажи – и я забуду,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Покажи – и я запомню,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Дай попробовать – и я пойму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563280" y="530064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итайская пословиц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рыбы живут на разных «этажах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рыбы разные: круглые и плоские, яркие и невзрачные..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1097178"/>
          <p:cNvPicPr/>
          <p:nvPr/>
        </p:nvPicPr>
        <p:blipFill>
          <a:blip r:embed="rId1"/>
          <a:stretch/>
        </p:blipFill>
        <p:spPr>
          <a:xfrm>
            <a:off x="5292720" y="3962520"/>
            <a:ext cx="3851280" cy="28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сследования учащихс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лияние толщины океана на форму ры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висимость окраски рыбы от температуры воды, света, соле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лияние способа питания на внешний вид ры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21-web"/>
          <p:cNvPicPr/>
          <p:nvPr/>
        </p:nvPicPr>
        <p:blipFill>
          <a:blip r:embed="rId1"/>
          <a:stretch/>
        </p:blipFill>
        <p:spPr>
          <a:xfrm>
            <a:off x="6443640" y="4703760"/>
            <a:ext cx="2700360" cy="215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иды деятельности групп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бота с информацией (поиск, анализ и сопоставление информации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макета «Этажи мор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альбома «Морское чуд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презентации «Рыбы на разных этажах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лан применения проекта в школ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е презентаций учеников на уроках по данной тем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е макета для демонстрации дидактического матер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е альбома  как познавательный энциклопедический матери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42920" y="-122400"/>
            <a:ext cx="9001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Проек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- «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брошенный вперед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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совокупность документов, расчётов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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предварительный текст документа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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замысел, план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ектирование – процесс создания проекта- прототипа, прообраза предполагаемого или возможного объ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324000" y="257760"/>
            <a:ext cx="856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Учебный проект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это совокупност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дания учащимся, проблемы, которую надо решить, способов ее решения, форм организации и анализа результата и сопоставление его с предварительной гипотез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214200" y="642960"/>
            <a:ext cx="8502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Метод проектов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набор техник и приемов, позволяющих создавать образовательные ситуации и технология сопровождения самостоятельной деятельности учащего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Главная идея метода проекта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, развивать критическое мышл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033"/>
          <p:cNvPicPr/>
          <p:nvPr/>
        </p:nvPicPr>
        <p:blipFill>
          <a:blip r:embed="rId1"/>
          <a:stretch/>
        </p:blipFill>
        <p:spPr>
          <a:xfrm>
            <a:off x="6732720" y="4292640"/>
            <a:ext cx="215892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343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Группы умений: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следовательски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очны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формационны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езентационны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вны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неджерск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sh-his"/>
          <p:cNvPicPr/>
          <p:nvPr/>
        </p:nvPicPr>
        <p:blipFill>
          <a:blip r:embed="rId1"/>
          <a:stretch/>
        </p:blipFill>
        <p:spPr>
          <a:xfrm>
            <a:off x="5857920" y="2786040"/>
            <a:ext cx="226368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ема проект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бирается из содержания учебных предметов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изка и понятна детям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ходится в зоне их ближайшего 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лительность выполнения про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1-2 урок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1-3 недели в режиме урочно-внеурочных занятий при участии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13:33Z</dcterms:created>
  <dc:creator>user</dc:creator>
  <dc:description/>
  <dc:language>en-US</dc:language>
  <cp:lastModifiedBy>Family</cp:lastModifiedBy>
  <dcterms:modified xsi:type="dcterms:W3CDTF">2013-01-19T17:36:18Z</dcterms:modified>
  <cp:revision>33</cp:revision>
  <dc:subject/>
  <dc:title>Магия моря</dc:title>
</cp:coreProperties>
</file>