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CED-07A6-43F2-9CB7-4D1F98FA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3D2-51BE-4862-ABC1-252657D0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E92-D606-4703-AC10-CB3C03B5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2D5-349E-4333-A4B1-EE502C99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EE07-7CBD-4ECF-B30D-1C7B8B96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2953-CE3A-450B-B417-89D66C22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BE62-A37E-4814-A584-D1957C5E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268A-F67E-467C-A9E4-775DCE8B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5A9F-C2A4-48C8-9258-D53158E8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DA97-EDB8-49CC-990A-275480C6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7AAB-F445-41E4-BE13-DEFED0E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97C-81B6-4384-83CB-3031B2F8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435A-CD35-4113-9EEB-DF652785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B8BD-8E0E-45F9-9490-0D1C7C30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F4F0-E61C-4D1C-A154-20C8BFBB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C9E3-6AED-49F7-8B97-D2E41884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629C-B9D8-4C9F-A401-968D9EE1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75F0-3759-4BA2-B695-534B6BC5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F363-C9B0-4EBC-B164-CE62D0D0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9BDA9-B598-40E7-B5FD-D64333E5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CB01-B90E-4C21-801B-447A5D96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FD16-E8FC-4213-AC07-9834CC2F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E0D-114A-4C27-A00C-A199F578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65EC-B207-4B57-885F-E224AD4E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A6FA-E08C-4FB7-AC1E-62ADC6D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03BA-23EA-42C5-8189-F00AED2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4AB7-9DAB-467B-9013-A0ABC6C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4C26-1DB3-47C3-B9A5-FBDD208C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20F7-3398-451C-A809-252240A0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D83D-1D85-4256-90DD-69998FA2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8FE94-22D6-44EF-B9AF-336E4521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1050B-E51F-40C6-8E70-90CBF3FE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143E-8D0F-4374-977A-E2D425F2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96F-E3B1-4D38-800A-AC66764F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19E7-1C16-494A-9968-B84B6A98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5559-B050-4600-B2AB-B739512A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5D5A-EB41-4604-91F6-81805847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7332-5D49-45B1-89C3-BBE4516A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833C-F339-4762-8E8F-6EB2E1E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7D86-F11D-4900-879E-B3B898E0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CD20-CFD3-4609-ADB4-D01579B1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996F-8EC8-413B-9B93-B5952A7B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1BD1-9F02-49EC-98D1-E292A9B9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C16F-503A-4673-B2EC-7DA2610B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7DE-0AC7-4AB0-ACAC-960A6894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77AC2-A40F-4E83-AF18-5832DD64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A08CA-C6F5-4B66-A3C3-C166267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C262-C3DC-4EEE-A700-A19029C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AD3B-AFA2-4610-A9CD-1497D846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FAE8E-CC43-41C4-AFC2-4F4A0287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103F-F09F-4BB2-A066-FB7088CA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2ACA-542C-4FCD-9C98-3D157E7E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5B0D8-C47A-4119-A106-AE537261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301C-2117-4D39-921B-79339A41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342E0-3C8A-41DD-A210-40AC9806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F48-EED2-4402-8BF2-51308B1E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C94C7-7FD6-40A0-A33B-90D347AC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DB2-A9FB-4680-ACCA-64B771A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251-7A4F-488F-94AC-47F53F71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8A8-D22A-4BB4-9090-1A1EC0C0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564E-6F3D-4C04-81A6-87825079BB4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19F-F30F-4388-B2E9-FCED679F875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EE73-899F-49C9-914F-534263B7A88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BF97-9905-4FC7-B1AD-6CB84F3AB0A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40F8-1D78-4400-A223-5061CE1FF26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43920" cy="30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70c"/>
                </a:solidFill>
                <a:latin typeface="Gabriola"/>
              </a:rPr>
              <a:t>Структура современного урока 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766f"/>
                </a:solidFill>
                <a:latin typeface="Verdana"/>
              </a:rPr>
              <a:t>Л. А. Лебеде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Прямоугольник 6"/>
          <p:cNvGrpSpPr/>
          <p:nvPr/>
        </p:nvGrpSpPr>
        <p:grpSpPr>
          <a:xfrm>
            <a:off x="1841400" y="225360"/>
            <a:ext cx="5881680" cy="908280"/>
            <a:chOff x="1841400" y="225360"/>
            <a:chExt cx="5881680" cy="908280"/>
          </a:xfrm>
        </p:grpSpPr>
        <p:pic>
          <p:nvPicPr>
            <p:cNvPr id="268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841400" y="225360"/>
              <a:ext cx="58816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928880" y="428760"/>
              <a:ext cx="5715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Структур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428400" y="1785960"/>
            <a:ext cx="4257720" cy="406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100000"/>
              </a:lnSpc>
              <a:buClr>
                <a:srgbClr val="005426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426"/>
                </a:solidFill>
                <a:latin typeface="Monotype Corsiva"/>
              </a:rPr>
              <a:t>Орг.момент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ка готовности обучающихся к заняти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00720" y="1785960"/>
            <a:ext cx="4257360" cy="406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>
              <a:lnSpc>
                <a:spcPct val="100000"/>
              </a:lnSpc>
              <a:buClr>
                <a:srgbClr val="005426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426"/>
                </a:solidFill>
                <a:latin typeface="Monotype Corsiva"/>
              </a:rPr>
              <a:t>Создание эмоционального настроя. Введение в работ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отивация      (самоопределение)   обучающихся к  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Цилиндр 9" descr=""/>
          <p:cNvPicPr/>
          <p:nvPr/>
        </p:nvPicPr>
        <p:blipFill>
          <a:blip r:embed="rId2"/>
          <a:stretch/>
        </p:blipFill>
        <p:spPr>
          <a:xfrm>
            <a:off x="414360" y="927000"/>
            <a:ext cx="3809880" cy="981000"/>
          </a:xfrm>
          <a:prstGeom prst="rect">
            <a:avLst/>
          </a:prstGeom>
          <a:ln w="0">
            <a:noFill/>
          </a:ln>
        </p:spPr>
      </p:pic>
      <p:pic>
        <p:nvPicPr>
          <p:cNvPr id="273" name="Цилиндр 11" descr=""/>
          <p:cNvPicPr/>
          <p:nvPr/>
        </p:nvPicPr>
        <p:blipFill>
          <a:blip r:embed="rId3"/>
          <a:stretch/>
        </p:blipFill>
        <p:spPr>
          <a:xfrm>
            <a:off x="4986360" y="927000"/>
            <a:ext cx="3736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Прямоугольник 6"/>
          <p:cNvGrpSpPr/>
          <p:nvPr/>
        </p:nvGrpSpPr>
        <p:grpSpPr>
          <a:xfrm>
            <a:off x="1841400" y="225360"/>
            <a:ext cx="5881680" cy="908280"/>
            <a:chOff x="1841400" y="225360"/>
            <a:chExt cx="5881680" cy="908280"/>
          </a:xfrm>
        </p:grpSpPr>
        <p:pic>
          <p:nvPicPr>
            <p:cNvPr id="275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841400" y="225360"/>
              <a:ext cx="58816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928880" y="428760"/>
              <a:ext cx="5715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Структур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Цилиндр 9" descr=""/>
          <p:cNvPicPr/>
          <p:nvPr/>
        </p:nvPicPr>
        <p:blipFill>
          <a:blip r:embed="rId2"/>
          <a:stretch/>
        </p:blipFill>
        <p:spPr>
          <a:xfrm>
            <a:off x="414360" y="927000"/>
            <a:ext cx="3809880" cy="981000"/>
          </a:xfrm>
          <a:prstGeom prst="rect">
            <a:avLst/>
          </a:prstGeom>
          <a:ln w="0">
            <a:noFill/>
          </a:ln>
        </p:spPr>
      </p:pic>
      <p:pic>
        <p:nvPicPr>
          <p:cNvPr id="278" name="Цилиндр 11" descr=""/>
          <p:cNvPicPr/>
          <p:nvPr/>
        </p:nvPicPr>
        <p:blipFill>
          <a:blip r:embed="rId3"/>
          <a:stretch/>
        </p:blipFill>
        <p:spPr>
          <a:xfrm>
            <a:off x="4986360" y="927000"/>
            <a:ext cx="3736800" cy="9810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8"/>
          <p:cNvSpPr/>
          <p:nvPr/>
        </p:nvSpPr>
        <p:spPr>
          <a:xfrm>
            <a:off x="4786200" y="2071800"/>
            <a:ext cx="4071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4"/>
          <p:cNvSpPr/>
          <p:nvPr/>
        </p:nvSpPr>
        <p:spPr>
          <a:xfrm>
            <a:off x="428760" y="1928880"/>
            <a:ext cx="4071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426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Проверка выполнения домашнего 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4357800" y="1928880"/>
            <a:ext cx="464328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426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Актуализация и фиксация затруднений в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подготовки и мотивации  к изучению материала, необходимого для «открытия нового знания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 затруднения в деятельности каждого обучающего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оугольник 6"/>
          <p:cNvGrpSpPr/>
          <p:nvPr/>
        </p:nvGrpSpPr>
        <p:grpSpPr>
          <a:xfrm>
            <a:off x="1841400" y="225360"/>
            <a:ext cx="5881680" cy="908280"/>
            <a:chOff x="1841400" y="225360"/>
            <a:chExt cx="5881680" cy="908280"/>
          </a:xfrm>
        </p:grpSpPr>
        <p:pic>
          <p:nvPicPr>
            <p:cNvPr id="283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841400" y="225360"/>
              <a:ext cx="58816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928880" y="428760"/>
              <a:ext cx="5715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Структур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Цилиндр 9" descr=""/>
          <p:cNvPicPr/>
          <p:nvPr/>
        </p:nvPicPr>
        <p:blipFill>
          <a:blip r:embed="rId2"/>
          <a:stretch/>
        </p:blipFill>
        <p:spPr>
          <a:xfrm>
            <a:off x="414360" y="927000"/>
            <a:ext cx="3809880" cy="981000"/>
          </a:xfrm>
          <a:prstGeom prst="rect">
            <a:avLst/>
          </a:prstGeom>
          <a:ln w="0">
            <a:noFill/>
          </a:ln>
        </p:spPr>
      </p:pic>
      <p:pic>
        <p:nvPicPr>
          <p:cNvPr id="286" name="Цилиндр 11" descr=""/>
          <p:cNvPicPr/>
          <p:nvPr/>
        </p:nvPicPr>
        <p:blipFill>
          <a:blip r:embed="rId3"/>
          <a:stretch/>
        </p:blipFill>
        <p:spPr>
          <a:xfrm>
            <a:off x="4986360" y="927000"/>
            <a:ext cx="3736800" cy="9810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8"/>
          <p:cNvSpPr/>
          <p:nvPr/>
        </p:nvSpPr>
        <p:spPr>
          <a:xfrm>
            <a:off x="4500720" y="2000160"/>
            <a:ext cx="435744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3. Создание проблемной ситу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ой ситуации, в результате которого обучающиеся самостоятельно выдвинут цели урока в виде вопросов или гипоте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357120" y="2000160"/>
            <a:ext cx="41436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3. Сообщения темы и целей урока</a:t>
            </a:r>
            <a:r>
              <a:rPr b="1" lang="ru-RU" sz="1800" spc="-1" strike="noStrike">
                <a:solidFill>
                  <a:srgbClr val="00542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Прямоугольник 6"/>
          <p:cNvGrpSpPr/>
          <p:nvPr/>
        </p:nvGrpSpPr>
        <p:grpSpPr>
          <a:xfrm>
            <a:off x="1841400" y="225360"/>
            <a:ext cx="5881680" cy="908280"/>
            <a:chOff x="1841400" y="225360"/>
            <a:chExt cx="5881680" cy="908280"/>
          </a:xfrm>
        </p:grpSpPr>
        <p:pic>
          <p:nvPicPr>
            <p:cNvPr id="290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841400" y="225360"/>
              <a:ext cx="58816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928880" y="428760"/>
              <a:ext cx="5715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Структур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Цилиндр 9" descr=""/>
          <p:cNvPicPr/>
          <p:nvPr/>
        </p:nvPicPr>
        <p:blipFill>
          <a:blip r:embed="rId2"/>
          <a:stretch/>
        </p:blipFill>
        <p:spPr>
          <a:xfrm>
            <a:off x="414360" y="927000"/>
            <a:ext cx="3809880" cy="981000"/>
          </a:xfrm>
          <a:prstGeom prst="rect">
            <a:avLst/>
          </a:prstGeom>
          <a:ln w="0">
            <a:noFill/>
          </a:ln>
        </p:spPr>
      </p:pic>
      <p:pic>
        <p:nvPicPr>
          <p:cNvPr id="293" name="Цилиндр 11" descr=""/>
          <p:cNvPicPr/>
          <p:nvPr/>
        </p:nvPicPr>
        <p:blipFill>
          <a:blip r:embed="rId3"/>
          <a:stretch/>
        </p:blipFill>
        <p:spPr>
          <a:xfrm>
            <a:off x="4986360" y="927000"/>
            <a:ext cx="3736800" cy="9810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8"/>
          <p:cNvSpPr/>
          <p:nvPr/>
        </p:nvSpPr>
        <p:spPr>
          <a:xfrm>
            <a:off x="4786200" y="2071800"/>
            <a:ext cx="4071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428760" y="2000160"/>
            <a:ext cx="414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4.Объяснение нового матери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ам объясняет новый материал уро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4572000" y="2000160"/>
            <a:ext cx="428616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4.Поиск решения проблемной ситу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едлагает материал для наблюдения и систему вопро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знание обучающиеся получают в результате самостоятельного исслед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Прямоугольник 6"/>
          <p:cNvGrpSpPr/>
          <p:nvPr/>
        </p:nvGrpSpPr>
        <p:grpSpPr>
          <a:xfrm>
            <a:off x="1841400" y="225360"/>
            <a:ext cx="5881680" cy="908280"/>
            <a:chOff x="1841400" y="225360"/>
            <a:chExt cx="5881680" cy="908280"/>
          </a:xfrm>
        </p:grpSpPr>
        <p:pic>
          <p:nvPicPr>
            <p:cNvPr id="298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841400" y="225360"/>
              <a:ext cx="58816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928880" y="428760"/>
              <a:ext cx="5715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Структур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Цилиндр 9" descr=""/>
          <p:cNvPicPr/>
          <p:nvPr/>
        </p:nvPicPr>
        <p:blipFill>
          <a:blip r:embed="rId2"/>
          <a:stretch/>
        </p:blipFill>
        <p:spPr>
          <a:xfrm>
            <a:off x="414360" y="927000"/>
            <a:ext cx="3809880" cy="981000"/>
          </a:xfrm>
          <a:prstGeom prst="rect">
            <a:avLst/>
          </a:prstGeom>
          <a:ln w="0">
            <a:noFill/>
          </a:ln>
        </p:spPr>
      </p:pic>
      <p:pic>
        <p:nvPicPr>
          <p:cNvPr id="301" name="Цилиндр 11" descr=""/>
          <p:cNvPicPr/>
          <p:nvPr/>
        </p:nvPicPr>
        <p:blipFill>
          <a:blip r:embed="rId3"/>
          <a:stretch/>
        </p:blipFill>
        <p:spPr>
          <a:xfrm>
            <a:off x="4986360" y="927000"/>
            <a:ext cx="3736800" cy="981000"/>
          </a:xfrm>
          <a:prstGeom prst="rect">
            <a:avLst/>
          </a:prstGeom>
          <a:ln w="0">
            <a:noFill/>
          </a:ln>
        </p:spPr>
      </p:pic>
      <p:sp>
        <p:nvSpPr>
          <p:cNvPr id="302" name="TextBox 8"/>
          <p:cNvSpPr/>
          <p:nvPr/>
        </p:nvSpPr>
        <p:spPr>
          <a:xfrm>
            <a:off x="4572000" y="2071800"/>
            <a:ext cx="4286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5. Первичное закрепление с проговарива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своения детьми нового способа действий при решении задач с их проговариванием во внешней реч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428760" y="2071800"/>
            <a:ext cx="407196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5.  Первичное закреп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своения обучающимися нового учебного матери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Прямоугольник 6"/>
          <p:cNvGrpSpPr/>
          <p:nvPr/>
        </p:nvGrpSpPr>
        <p:grpSpPr>
          <a:xfrm>
            <a:off x="1841400" y="225360"/>
            <a:ext cx="5881680" cy="908280"/>
            <a:chOff x="1841400" y="225360"/>
            <a:chExt cx="5881680" cy="908280"/>
          </a:xfrm>
        </p:grpSpPr>
        <p:pic>
          <p:nvPicPr>
            <p:cNvPr id="305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841400" y="225360"/>
              <a:ext cx="58816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928880" y="428760"/>
              <a:ext cx="5715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Структур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Цилиндр 9" descr=""/>
          <p:cNvPicPr/>
          <p:nvPr/>
        </p:nvPicPr>
        <p:blipFill>
          <a:blip r:embed="rId2"/>
          <a:stretch/>
        </p:blipFill>
        <p:spPr>
          <a:xfrm>
            <a:off x="414360" y="927000"/>
            <a:ext cx="3809880" cy="981000"/>
          </a:xfrm>
          <a:prstGeom prst="rect">
            <a:avLst/>
          </a:prstGeom>
          <a:ln w="0">
            <a:noFill/>
          </a:ln>
        </p:spPr>
      </p:pic>
      <p:pic>
        <p:nvPicPr>
          <p:cNvPr id="308" name="Цилиндр 11" descr=""/>
          <p:cNvPicPr/>
          <p:nvPr/>
        </p:nvPicPr>
        <p:blipFill>
          <a:blip r:embed="rId3"/>
          <a:stretch/>
        </p:blipFill>
        <p:spPr>
          <a:xfrm>
            <a:off x="4986360" y="927000"/>
            <a:ext cx="3736800" cy="981000"/>
          </a:xfrm>
          <a:prstGeom prst="rect">
            <a:avLst/>
          </a:prstGeom>
          <a:ln w="0">
            <a:noFill/>
          </a:ln>
        </p:spPr>
      </p:pic>
      <p:sp>
        <p:nvSpPr>
          <p:cNvPr id="309" name="TextBox 8"/>
          <p:cNvSpPr/>
          <p:nvPr/>
        </p:nvSpPr>
        <p:spPr>
          <a:xfrm>
            <a:off x="4786200" y="2071800"/>
            <a:ext cx="4071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357120" y="1857240"/>
            <a:ext cx="41436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buClr>
                <a:srgbClr val="005426"/>
              </a:buClr>
              <a:buFont typeface="Monotype Corsiv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Самостоятельная рабо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качества и уровня ЗУ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4214880" y="1857240"/>
            <a:ext cx="4786200" cy="58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buClr>
                <a:srgbClr val="005426"/>
              </a:buClr>
              <a:buFont typeface="Monotype Corsiv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Самостоятельная работа с (само) взаимопровер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амостоятельного выполнения заданий на новый способ действий и самопроверки решений по эталон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выявления причин ошибок и их ис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оугольник 6"/>
          <p:cNvGrpSpPr/>
          <p:nvPr/>
        </p:nvGrpSpPr>
        <p:grpSpPr>
          <a:xfrm>
            <a:off x="1841400" y="225360"/>
            <a:ext cx="5881680" cy="908280"/>
            <a:chOff x="1841400" y="225360"/>
            <a:chExt cx="5881680" cy="908280"/>
          </a:xfrm>
        </p:grpSpPr>
        <p:pic>
          <p:nvPicPr>
            <p:cNvPr id="313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841400" y="225360"/>
              <a:ext cx="58816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928880" y="428760"/>
              <a:ext cx="5715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Структур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Цилиндр 9" descr=""/>
          <p:cNvPicPr/>
          <p:nvPr/>
        </p:nvPicPr>
        <p:blipFill>
          <a:blip r:embed="rId2"/>
          <a:stretch/>
        </p:blipFill>
        <p:spPr>
          <a:xfrm>
            <a:off x="414360" y="927000"/>
            <a:ext cx="3809880" cy="981000"/>
          </a:xfrm>
          <a:prstGeom prst="rect">
            <a:avLst/>
          </a:prstGeom>
          <a:ln w="0">
            <a:noFill/>
          </a:ln>
        </p:spPr>
      </p:pic>
      <p:pic>
        <p:nvPicPr>
          <p:cNvPr id="316" name="Цилиндр 11" descr=""/>
          <p:cNvPicPr/>
          <p:nvPr/>
        </p:nvPicPr>
        <p:blipFill>
          <a:blip r:embed="rId3"/>
          <a:stretch/>
        </p:blipFill>
        <p:spPr>
          <a:xfrm>
            <a:off x="4986360" y="927000"/>
            <a:ext cx="3736800" cy="9810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8"/>
          <p:cNvSpPr/>
          <p:nvPr/>
        </p:nvSpPr>
        <p:spPr>
          <a:xfrm>
            <a:off x="4572000" y="1857240"/>
            <a:ext cx="428616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7. Включение нового знания в систему знаний и повт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нового знания в систему зна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 и закрепление ранее изученн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357120" y="1928880"/>
            <a:ext cx="421488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7. Обобщение и систематизация зн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обучающихся по переводу отдельных знаний и умений в целостные системы внутри учебного предмета и межкурсов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Прямоугольник 6"/>
          <p:cNvGrpSpPr/>
          <p:nvPr/>
        </p:nvGrpSpPr>
        <p:grpSpPr>
          <a:xfrm>
            <a:off x="1841400" y="225360"/>
            <a:ext cx="5881680" cy="908280"/>
            <a:chOff x="1841400" y="225360"/>
            <a:chExt cx="5881680" cy="908280"/>
          </a:xfrm>
        </p:grpSpPr>
        <p:pic>
          <p:nvPicPr>
            <p:cNvPr id="320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841400" y="225360"/>
              <a:ext cx="58816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928880" y="428760"/>
              <a:ext cx="5715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Структур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Цилиндр 9" descr=""/>
          <p:cNvPicPr/>
          <p:nvPr/>
        </p:nvPicPr>
        <p:blipFill>
          <a:blip r:embed="rId2"/>
          <a:stretch/>
        </p:blipFill>
        <p:spPr>
          <a:xfrm>
            <a:off x="414360" y="927000"/>
            <a:ext cx="3809880" cy="981000"/>
          </a:xfrm>
          <a:prstGeom prst="rect">
            <a:avLst/>
          </a:prstGeom>
          <a:ln w="0">
            <a:noFill/>
          </a:ln>
        </p:spPr>
      </p:pic>
      <p:pic>
        <p:nvPicPr>
          <p:cNvPr id="323" name="Цилиндр 11" descr=""/>
          <p:cNvPicPr/>
          <p:nvPr/>
        </p:nvPicPr>
        <p:blipFill>
          <a:blip r:embed="rId3"/>
          <a:stretch/>
        </p:blipFill>
        <p:spPr>
          <a:xfrm>
            <a:off x="4986360" y="927000"/>
            <a:ext cx="3736800" cy="9810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8"/>
          <p:cNvSpPr/>
          <p:nvPr/>
        </p:nvSpPr>
        <p:spPr>
          <a:xfrm>
            <a:off x="4786200" y="2071800"/>
            <a:ext cx="4071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57120" y="2071800"/>
            <a:ext cx="421488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8.Итог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уро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4572000" y="2000160"/>
            <a:ext cx="428616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8. Рефлексия учебной деятельности на урок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обучающимися своей учебной деятельност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результатов своей деятельности и всего кла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Прямоугольник 6"/>
          <p:cNvGrpSpPr/>
          <p:nvPr/>
        </p:nvGrpSpPr>
        <p:grpSpPr>
          <a:xfrm>
            <a:off x="1841400" y="225360"/>
            <a:ext cx="5881680" cy="908280"/>
            <a:chOff x="1841400" y="225360"/>
            <a:chExt cx="5881680" cy="908280"/>
          </a:xfrm>
        </p:grpSpPr>
        <p:pic>
          <p:nvPicPr>
            <p:cNvPr id="328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841400" y="225360"/>
              <a:ext cx="58816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928880" y="428760"/>
              <a:ext cx="5715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Структур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Цилиндр 9" descr=""/>
          <p:cNvPicPr/>
          <p:nvPr/>
        </p:nvPicPr>
        <p:blipFill>
          <a:blip r:embed="rId2"/>
          <a:stretch/>
        </p:blipFill>
        <p:spPr>
          <a:xfrm>
            <a:off x="414360" y="927000"/>
            <a:ext cx="3809880" cy="981000"/>
          </a:xfrm>
          <a:prstGeom prst="rect">
            <a:avLst/>
          </a:prstGeom>
          <a:ln w="0">
            <a:noFill/>
          </a:ln>
        </p:spPr>
      </p:pic>
      <p:pic>
        <p:nvPicPr>
          <p:cNvPr id="331" name="Цилиндр 11" descr=""/>
          <p:cNvPicPr/>
          <p:nvPr/>
        </p:nvPicPr>
        <p:blipFill>
          <a:blip r:embed="rId3"/>
          <a:stretch/>
        </p:blipFill>
        <p:spPr>
          <a:xfrm>
            <a:off x="4986360" y="927000"/>
            <a:ext cx="3736800" cy="9810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8"/>
          <p:cNvSpPr/>
          <p:nvPr/>
        </p:nvSpPr>
        <p:spPr>
          <a:xfrm>
            <a:off x="4786200" y="2071800"/>
            <a:ext cx="4071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357120" y="2000160"/>
            <a:ext cx="42148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9.Информация о домашнем задании, инструктаж по его выполне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домашнего зада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аж по его выполнен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4572000" y="2000160"/>
            <a:ext cx="435780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 </a:t>
            </a:r>
            <a:r>
              <a:rPr b="1" lang="ru-RU" sz="3000" spc="-1" strike="noStrike">
                <a:solidFill>
                  <a:srgbClr val="005426"/>
                </a:solidFill>
                <a:latin typeface="Monotype Corsiva"/>
              </a:rPr>
              <a:t>9. Информация о домашнем задании входит в этап рефлексии учебной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ая часть – задание посильное для каждого ребёнка на вариативной основе и с творческим компонент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ая ча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3"/>
          <p:cNvSpPr/>
          <p:nvPr/>
        </p:nvSpPr>
        <p:spPr>
          <a:xfrm>
            <a:off x="357120" y="428760"/>
            <a:ext cx="84297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ждый урок должен быть для наставника задачей, которую он должен выполнять, обдумывая это заранее: на каждом уроке он должен чего-нибудь достигнуть, сделать шаг дальше и заставить весь класс сделать этот ш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3357720" y="6072120"/>
            <a:ext cx="528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. Д. Уши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Если мы будем учить сегодня так, как учили вчера, мы украдем у детей завтра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Джон Дьюи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54800" cy="500040"/>
          </a:xfrm>
          <a:prstGeom prst="rect">
            <a:avLst/>
          </a:prstGeom>
          <a:gradFill rotWithShape="0">
            <a:gsLst>
              <a:gs pos="0">
                <a:srgbClr val="964700"/>
              </a:gs>
              <a:gs pos="100000">
                <a:srgbClr val="ff7f00"/>
              </a:gs>
            </a:gsLst>
            <a:lin ang="162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ahoma"/>
              </a:rPr>
              <a:t>СИСТЕМНО-ДЕЯТЕЛЬНОСТНЫЙ ПОДХОД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41280" y="1316160"/>
            <a:ext cx="8454960" cy="1225440"/>
          </a:xfrm>
          <a:prstGeom prst="rect">
            <a:avLst/>
          </a:prstGeom>
          <a:ln w="0">
            <a:noFill/>
          </a:ln>
        </p:spPr>
      </p:pic>
      <p:pic>
        <p:nvPicPr>
          <p:cNvPr id="225" name="Овал 4" descr=""/>
          <p:cNvPicPr/>
          <p:nvPr/>
        </p:nvPicPr>
        <p:blipFill>
          <a:blip r:embed="rId2"/>
          <a:stretch/>
        </p:blipFill>
        <p:spPr>
          <a:xfrm>
            <a:off x="334800" y="2687760"/>
            <a:ext cx="8480520" cy="1341360"/>
          </a:xfrm>
          <a:prstGeom prst="rect">
            <a:avLst/>
          </a:prstGeom>
          <a:ln w="0">
            <a:noFill/>
          </a:ln>
        </p:spPr>
      </p:pic>
      <p:pic>
        <p:nvPicPr>
          <p:cNvPr id="226" name="Овал 5" descr=""/>
          <p:cNvPicPr/>
          <p:nvPr/>
        </p:nvPicPr>
        <p:blipFill>
          <a:blip r:embed="rId3"/>
          <a:stretch/>
        </p:blipFill>
        <p:spPr>
          <a:xfrm>
            <a:off x="128520" y="4170240"/>
            <a:ext cx="3095640" cy="2443320"/>
          </a:xfrm>
          <a:prstGeom prst="rect">
            <a:avLst/>
          </a:prstGeom>
          <a:ln w="0">
            <a:noFill/>
          </a:ln>
        </p:spPr>
      </p:pic>
      <p:pic>
        <p:nvPicPr>
          <p:cNvPr id="227" name="Овал 6" descr=""/>
          <p:cNvPicPr/>
          <p:nvPr/>
        </p:nvPicPr>
        <p:blipFill>
          <a:blip r:embed="rId4"/>
          <a:stretch/>
        </p:blipFill>
        <p:spPr>
          <a:xfrm>
            <a:off x="3127320" y="4243320"/>
            <a:ext cx="3024360" cy="2443320"/>
          </a:xfrm>
          <a:prstGeom prst="rect">
            <a:avLst/>
          </a:prstGeom>
          <a:ln w="0">
            <a:noFill/>
          </a:ln>
        </p:spPr>
      </p:pic>
      <p:pic>
        <p:nvPicPr>
          <p:cNvPr id="228" name="Овал 7" descr=""/>
          <p:cNvPicPr/>
          <p:nvPr/>
        </p:nvPicPr>
        <p:blipFill>
          <a:blip r:embed="rId5"/>
          <a:stretch/>
        </p:blipFill>
        <p:spPr>
          <a:xfrm>
            <a:off x="6066000" y="4243320"/>
            <a:ext cx="294480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578628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Урок – это зеркало общей и педагогической культуры учителя, мерило его интеллектуального богатства, показатель его кругозора, эрудиции.</a:t>
            </a:r>
            <a:br>
              <a:rPr sz="5400"/>
            </a:br>
            <a:br>
              <a:rPr sz="800"/>
            </a:b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В. А. Сухомлинский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Прямоугольник 6"/>
          <p:cNvGrpSpPr/>
          <p:nvPr/>
        </p:nvGrpSpPr>
        <p:grpSpPr>
          <a:xfrm>
            <a:off x="1414440" y="171360"/>
            <a:ext cx="6450120" cy="992160"/>
            <a:chOff x="1414440" y="171360"/>
            <a:chExt cx="6450120" cy="992160"/>
          </a:xfrm>
        </p:grpSpPr>
        <p:pic>
          <p:nvPicPr>
            <p:cNvPr id="231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414440" y="171360"/>
              <a:ext cx="645012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500120" y="428760"/>
              <a:ext cx="6286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Monotype Corsiva"/>
                </a:rPr>
                <a:t>Классификация уроко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Цилиндр 9" descr=""/>
          <p:cNvPicPr/>
          <p:nvPr/>
        </p:nvPicPr>
        <p:blipFill>
          <a:blip r:embed="rId2"/>
          <a:stretch/>
        </p:blipFill>
        <p:spPr>
          <a:xfrm>
            <a:off x="274680" y="927000"/>
            <a:ext cx="3803760" cy="981000"/>
          </a:xfrm>
          <a:prstGeom prst="rect">
            <a:avLst/>
          </a:prstGeom>
          <a:ln w="0">
            <a:noFill/>
          </a:ln>
        </p:spPr>
      </p:pic>
      <p:pic>
        <p:nvPicPr>
          <p:cNvPr id="234" name="Цилиндр 11" descr=""/>
          <p:cNvPicPr/>
          <p:nvPr/>
        </p:nvPicPr>
        <p:blipFill>
          <a:blip r:embed="rId3"/>
          <a:stretch/>
        </p:blipFill>
        <p:spPr>
          <a:xfrm>
            <a:off x="5126040" y="927000"/>
            <a:ext cx="3736800" cy="981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4500720" y="1785960"/>
            <a:ext cx="45003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«открытия» нов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отработки и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методологической направ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азвивающего контроля (построения системы зн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357120" y="1785960"/>
            <a:ext cx="42148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изучения нов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совершенствования З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обобщения и системат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контроля и коррекции З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Прямоугольник 6"/>
          <p:cNvGrpSpPr/>
          <p:nvPr/>
        </p:nvGrpSpPr>
        <p:grpSpPr>
          <a:xfrm>
            <a:off x="414360" y="208080"/>
            <a:ext cx="8308800" cy="925560"/>
            <a:chOff x="414360" y="208080"/>
            <a:chExt cx="8308800" cy="925560"/>
          </a:xfrm>
        </p:grpSpPr>
        <p:pic>
          <p:nvPicPr>
            <p:cNvPr id="238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414360" y="208080"/>
              <a:ext cx="83088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00040" y="428760"/>
              <a:ext cx="8143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Урок «открытия» новых знани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Цилиндр 9" descr=""/>
          <p:cNvPicPr/>
          <p:nvPr/>
        </p:nvPicPr>
        <p:blipFill>
          <a:blip r:embed="rId2"/>
          <a:stretch/>
        </p:blipFill>
        <p:spPr>
          <a:xfrm>
            <a:off x="414360" y="1096920"/>
            <a:ext cx="6522840" cy="8780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500040" y="514368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понятийной базы за счет включения в нее новых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428760" y="214308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пособности учащихся к новому способу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Цилиндр 8" descr=""/>
          <p:cNvPicPr/>
          <p:nvPr/>
        </p:nvPicPr>
        <p:blipFill>
          <a:blip r:embed="rId3"/>
          <a:stretch/>
        </p:blipFill>
        <p:spPr>
          <a:xfrm>
            <a:off x="414360" y="4389480"/>
            <a:ext cx="65228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Прямоугольник 6"/>
          <p:cNvGrpSpPr/>
          <p:nvPr/>
        </p:nvGrpSpPr>
        <p:grpSpPr>
          <a:xfrm>
            <a:off x="414360" y="208080"/>
            <a:ext cx="8308800" cy="925560"/>
            <a:chOff x="414360" y="208080"/>
            <a:chExt cx="8308800" cy="925560"/>
          </a:xfrm>
        </p:grpSpPr>
        <p:pic>
          <p:nvPicPr>
            <p:cNvPr id="245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414360" y="208080"/>
              <a:ext cx="83088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00040" y="428760"/>
              <a:ext cx="8143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Урок отработки умений и рефлекси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Цилиндр 11" descr=""/>
          <p:cNvPicPr/>
          <p:nvPr/>
        </p:nvPicPr>
        <p:blipFill>
          <a:blip r:embed="rId2"/>
          <a:stretch/>
        </p:blipFill>
        <p:spPr>
          <a:xfrm>
            <a:off x="414360" y="4389480"/>
            <a:ext cx="6522840" cy="8715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8"/>
          <p:cNvSpPr/>
          <p:nvPr/>
        </p:nvSpPr>
        <p:spPr>
          <a:xfrm>
            <a:off x="357120" y="507204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и при необходимости коррекция изученных способов действий - понятий, алгоритм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357120" y="1785960"/>
            <a:ext cx="8572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учащихся способностей к рефлексии коррекционно-контрольного типа и реализации коррекционной нормы (фиксирование собственных затруднений, выявление их причин, построение и реализация проекта выхода из затруднен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Цилиндр 7" descr=""/>
          <p:cNvPicPr/>
          <p:nvPr/>
        </p:nvPicPr>
        <p:blipFill>
          <a:blip r:embed="rId3"/>
          <a:stretch/>
        </p:blipFill>
        <p:spPr>
          <a:xfrm>
            <a:off x="414360" y="1096920"/>
            <a:ext cx="6522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Прямоугольник 6"/>
          <p:cNvGrpSpPr/>
          <p:nvPr/>
        </p:nvGrpSpPr>
        <p:grpSpPr>
          <a:xfrm>
            <a:off x="291960" y="262080"/>
            <a:ext cx="8547120" cy="853920"/>
            <a:chOff x="291960" y="262080"/>
            <a:chExt cx="8547120" cy="853920"/>
          </a:xfrm>
        </p:grpSpPr>
        <p:pic>
          <p:nvPicPr>
            <p:cNvPr id="252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291960" y="262080"/>
              <a:ext cx="8547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8760" y="428760"/>
              <a:ext cx="8286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Урок общеметодологической направленност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Цилиндр 11" descr=""/>
          <p:cNvPicPr/>
          <p:nvPr/>
        </p:nvPicPr>
        <p:blipFill>
          <a:blip r:embed="rId2"/>
          <a:stretch/>
        </p:blipFill>
        <p:spPr>
          <a:xfrm>
            <a:off x="414360" y="4389480"/>
            <a:ext cx="6522840" cy="8715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8"/>
          <p:cNvSpPr/>
          <p:nvPr/>
        </p:nvSpPr>
        <p:spPr>
          <a:xfrm>
            <a:off x="357120" y="507204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общенных деятельностных норм и выявление теоретических основ развития и выявление теоретических основ построения содержательно-методических линий курс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357120" y="1143000"/>
            <a:ext cx="857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учащихся деятельностных способностей и способностей к структурированию и систематизации изучаемого предметного содержания, формирование способности учащихся к новому способу действия, связанному с построением структуры изученных понятий и алгоритм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Прямоугольник 8"/>
          <p:cNvGrpSpPr/>
          <p:nvPr/>
        </p:nvGrpSpPr>
        <p:grpSpPr>
          <a:xfrm>
            <a:off x="341280" y="208080"/>
            <a:ext cx="8454960" cy="925560"/>
            <a:chOff x="341280" y="208080"/>
            <a:chExt cx="8454960" cy="925560"/>
          </a:xfrm>
        </p:grpSpPr>
        <p:pic>
          <p:nvPicPr>
            <p:cNvPr id="258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341280" y="208080"/>
              <a:ext cx="845496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28760" y="428760"/>
              <a:ext cx="8286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Урок построения системы знаний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Прямоугольник 6"/>
          <p:cNvGrpSpPr/>
          <p:nvPr/>
        </p:nvGrpSpPr>
        <p:grpSpPr>
          <a:xfrm>
            <a:off x="341280" y="208080"/>
            <a:ext cx="8309160" cy="925560"/>
            <a:chOff x="341280" y="208080"/>
            <a:chExt cx="8309160" cy="925560"/>
          </a:xfrm>
        </p:grpSpPr>
        <p:pic>
          <p:nvPicPr>
            <p:cNvPr id="261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341280" y="208080"/>
              <a:ext cx="830916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28760" y="428760"/>
              <a:ext cx="8143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Урок развивающего контрол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Цилиндр 11" descr=""/>
          <p:cNvPicPr/>
          <p:nvPr/>
        </p:nvPicPr>
        <p:blipFill>
          <a:blip r:embed="rId2"/>
          <a:stretch/>
        </p:blipFill>
        <p:spPr>
          <a:xfrm>
            <a:off x="414360" y="4389480"/>
            <a:ext cx="6522840" cy="8715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8"/>
          <p:cNvSpPr/>
          <p:nvPr/>
        </p:nvSpPr>
        <p:spPr>
          <a:xfrm>
            <a:off x="357120" y="5072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и самоконтроль изученных  понятий и  алгоритм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357120" y="178596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учащихся способностей к осуществлению контрольной функц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Цилиндр 7" descr=""/>
          <p:cNvPicPr/>
          <p:nvPr/>
        </p:nvPicPr>
        <p:blipFill>
          <a:blip r:embed="rId3"/>
          <a:stretch/>
        </p:blipFill>
        <p:spPr>
          <a:xfrm>
            <a:off x="414360" y="1096920"/>
            <a:ext cx="6522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21:30:22Z</dcterms:created>
  <dc:creator>Family</dc:creator>
  <dc:description/>
  <dc:language>en-US</dc:language>
  <cp:lastModifiedBy>Family</cp:lastModifiedBy>
  <dcterms:modified xsi:type="dcterms:W3CDTF">2013-01-13T19:10:48Z</dcterms:modified>
  <cp:revision>135</cp:revision>
  <dc:subject/>
  <dc:title>Современный урок в свете внедрения ФГОС</dc:title>
</cp:coreProperties>
</file>